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85D7-C8B8-4050-94F1-4B47A39E7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3315-DB17-4A2B-A795-BD744EDD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7B4D-25D2-4523-826C-4D5443511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A033-B3C2-4BBA-B62E-3BDC8B4B8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70FE-5CEF-43B1-B77F-A031AA60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9E81-08C5-44EC-878A-06F63736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E5C5-8C95-4AB7-8A80-9DAEF7ED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7FCA-5506-4EEF-9ADE-533C84BA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7D2C-79CA-40C1-BF8A-8E0BDA4A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E2DE-E8DC-42D5-A6E9-224C7664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FB16-73C5-4CB6-8B65-B01F362D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7A04-9538-4ECF-A428-BC4FB43E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4603-2905-4F82-B7C4-68F3BDDA84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600" spc="-1" strike="noStrike">
                <a:solidFill>
                  <a:srgbClr val="000000"/>
                </a:solidFill>
                <a:latin typeface="Calibri"/>
              </a:rPr>
              <a:t>SPESIFIKASI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LAT DETEKSI RISIKO IBU HAMI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PESIFIKASI ALAT RAPID TEST (HB SAHLI) PELAYANAN ANTENATAL YANG DIBUTUHK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lat Gluko-Protein Ur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parameter meliputi Ph, glucose, dan prote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20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ali pemeriksaan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(disesuaikan dengan sasaran ibu hamil di desa dalam 1 tahu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es Kehamil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entuk carik cel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si </a:t>
            </a:r>
            <a:r>
              <a:rPr b="0" lang="id-ID" sz="16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20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rip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 (disesuaikan dengan sasaran ibu hamil di desa dalam 1 tahu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Golongan Dara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Reagen Anti A, B, AB, dan Rh isi </a:t>
            </a:r>
            <a:r>
              <a:rPr b="0" lang="id-ID" sz="16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20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c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Kartu golongan Darah sebanyak </a:t>
            </a:r>
            <a:r>
              <a:rPr b="0" lang="id-ID" sz="16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20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kartu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 (disesuaikan dengan sasaran ibu hamil di desa dalam 1 tahu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es Hb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tode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Sahl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agen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berupa HCl 0,1N sebanyak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00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 c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Autoclick devi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(Stainless Steel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Jarum lancet (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240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 biji) (disesuaikan dengan sasaran ibu hamil di desa dalam 1 tahun dimana masing-masing ibu hamil diperiksa 2 kali selama kehamilan)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.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Buku Petunjuk Teknis Penggunaan Alat Rapid Tes Pelayanan Antenatal bagi Bida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4T02:20:18Z</dcterms:created>
  <dc:creator>User</dc:creator>
  <dc:description/>
  <dc:language>en-US</dc:language>
  <cp:lastModifiedBy>LENOVO</cp:lastModifiedBy>
  <dcterms:modified xsi:type="dcterms:W3CDTF">2015-02-16T03:20:01Z</dcterms:modified>
  <cp:revision>28</cp:revision>
  <dc:subject/>
  <dc:title>DAFTAR KEBUTUHAN RAPID TES PELAYANAN ANTENATAL TAHUN 2015 (VERSI 65 M)</dc:title>
</cp:coreProperties>
</file>