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9472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A5C14-42E6-4024-9451-3CB79FEB5F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C538-9566-4DCB-B862-F30B45E9F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CCA8E-BE04-4E61-BB03-6111ED7CDA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41B28-D32D-451E-938C-5812C692BA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C30E0-F8B0-4350-B53C-47DEF06EFE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4FBBD-385E-425C-BD6B-0BD39D9BD8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A06A1-A9A6-4D21-8DBE-E489569969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EF8155-5545-4BE6-A58B-678E1F15B2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F5D13-6664-4A44-8E35-D509D056F8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86330-A2BC-41A4-8537-B10884F20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EF3DA-CE7B-40A2-A300-ACECA0AF7E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A32D9-3A42-44B9-A3FB-B21063601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18A36-DEA1-4ED8-9DB1-679B8EB91E83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336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d-ID" sz="3600" spc="-1" strike="noStrike">
                <a:solidFill>
                  <a:srgbClr val="000000"/>
                </a:solidFill>
                <a:latin typeface="Calibri"/>
              </a:rPr>
              <a:t>SPESIFIKASI </a:t>
            </a:r>
            <a:r>
              <a:rPr b="1" lang="en-US" sz="3600" spc="-1" strike="noStrike">
                <a:solidFill>
                  <a:srgbClr val="000000"/>
                </a:solidFill>
                <a:latin typeface="Calibri"/>
              </a:rPr>
              <a:t>ALAT DETEKSI RISIKO IBU HAMIL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44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Calibri"/>
              </a:rPr>
              <a:t>SPESIFIKASI ALAT RAPID TEST (HB SAHLI) PELAYANAN ANTENATAL YANG DIBUTUHKAN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457200" y="1447920"/>
            <a:ext cx="822960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Alat Gluko-Protein Ur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3 parameter meliputi Ph, glucose, dan protei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ff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kali pemeriksaa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Kehamilan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Bentuk carik celup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strip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Golongan Darah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Reagen Anti A, B, AB, dan Rh isi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 golongan Darah sebanyak </a:t>
            </a:r>
            <a:r>
              <a:rPr b="0" lang="id-ID" sz="1600" spc="-1" strike="noStrike">
                <a:solidFill>
                  <a:srgbClr val="ff0000"/>
                </a:solidFill>
                <a:latin typeface="Calibri"/>
              </a:rPr>
              <a:t>1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0</a:t>
            </a:r>
            <a:r>
              <a:rPr b="0" lang="de-DE" sz="1600" spc="-1" strike="noStrike">
                <a:solidFill>
                  <a:srgbClr val="ff0000"/>
                </a:solidFill>
                <a:latin typeface="Calibri"/>
              </a:rPr>
              <a:t> </a:t>
            </a:r>
            <a:r>
              <a:rPr b="0" lang="de-DE" sz="1600" spc="-1" strike="noStrike">
                <a:solidFill>
                  <a:srgbClr val="000000"/>
                </a:solidFill>
                <a:latin typeface="Calibri"/>
              </a:rPr>
              <a:t>kartu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(disesuaikan dengan sasaran ibu hamil di desa dalam 1 tahun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Tes Hb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Metode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Sahli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Reagen 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berupa HCl 0,1N sebanyak 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20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cc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Autoclick device</a:t>
            </a: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 (Stainless Steel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Jarum lancet (</a:t>
            </a:r>
            <a:r>
              <a:rPr b="0" lang="en-US" sz="1600" spc="-1" strike="noStrike">
                <a:solidFill>
                  <a:srgbClr val="ff0000"/>
                </a:solidFill>
                <a:latin typeface="Calibri"/>
              </a:rPr>
              <a:t>240</a:t>
            </a:r>
            <a:r>
              <a:rPr b="0" lang="id-ID" sz="1600" spc="-1" strike="noStrike">
                <a:solidFill>
                  <a:srgbClr val="000000"/>
                </a:solidFill>
                <a:latin typeface="Calibri"/>
              </a:rPr>
              <a:t> biji) (disesuaikan dengan sasaran ibu hamil di desa dalam 1 tahun dimana masing-masing ibu hamil diperiksa 2 kali selama kehamilan))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alibri"/>
              </a:rPr>
              <a:t>5.    </a:t>
            </a:r>
            <a:r>
              <a:rPr b="1" lang="en-US" sz="1600" spc="-1" strike="noStrike">
                <a:solidFill>
                  <a:srgbClr val="000000"/>
                </a:solidFill>
                <a:latin typeface="Calibri"/>
              </a:rPr>
              <a:t>Buku Petunjuk Teknis Penggunaan Alat Rapid Tes Pelayanan Antenatal bagi Bidan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24T02:20:18Z</dcterms:created>
  <dc:creator>User</dc:creator>
  <dc:description/>
  <dc:language>en-US</dc:language>
  <cp:lastModifiedBy>LENOVO</cp:lastModifiedBy>
  <dcterms:modified xsi:type="dcterms:W3CDTF">2015-02-16T03:20:01Z</dcterms:modified>
  <cp:revision>28</cp:revision>
  <dc:subject/>
  <dc:title>DAFTAR KEBUTUHAN RAPID TES PELAYANAN ANTENATAL TAHUN 2015 (VERSI 65 M)</dc:title>
</cp:coreProperties>
</file>